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745-9056-498A-96AE-182F6785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156-4E7E-4130-B0E8-361DA331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CF4-30E0-4C12-8299-A55EA4EF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3A3-5B8E-42E3-8E60-CADBC15D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2278-789C-4963-BCA6-B38B7AFE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E266-F069-4046-9463-90B57D47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EAB0-0B4E-4020-8D14-133104FB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F109-F3FC-4C58-963E-1B872B2D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7E4E-5A84-40DB-A396-9FCB32CE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B837-076C-4A58-971F-8EB61FE4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ABC0-F404-4913-8A7F-E98A3588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751-A682-48E1-9662-B2A8D8F1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34E1-427E-490F-8BC2-EA0B657A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967E-3EBC-4DC2-8707-683156A3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B1E9-1801-4194-8B3C-F813F11D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6086-F0AE-4319-8CB5-7670C8CB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9038-767E-463F-8952-8382353A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67E-D4C7-47B5-83C6-5E8C8CB9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ED8-ADB7-413C-B345-5DE97660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7E5-88D8-4809-957D-40D41024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0FF-A1E6-4AC7-8BDA-F2A37F06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00E-4E75-41BB-B814-309ACEEF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04F-ADC6-4B32-A3D1-34806DCD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0EC-6384-4B04-B2BB-6548AAFB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4149-FA6F-413D-A3E9-960198C0C56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64DC-48DB-40CA-9722-421A4C1043E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мейно-родовой ми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203640" y="4220640"/>
            <a:ext cx="511344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29"/>
                </a:solidFill>
                <a:latin typeface="Arial"/>
              </a:rPr>
              <a:t>центральная проблема романа М.Е.Салтыкова-Щедрина «Господа Головлевы»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9440" y="3429000"/>
            <a:ext cx="24080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Обратимся к «Словарю русского языка»</a:t>
            </a:r>
            <a:br>
              <a:rPr sz="2800"/>
            </a:b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С. И. Ожег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Семья – это группа живущих 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вместе родственников, 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объединение людей, сплоченных 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едиными интересами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Род- коллектив кровных родственников, ведущих происхождение от общего предк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Мир -  объединённое по каким–н. признакам человеческое общество, общественная среда, стро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Что такое семь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Я себя продала за 6 тыс. душ для братьев…(А.Смирнова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 признаюсь, для меня даже противно видеть, когда мать хвастается своим сыном. (Н.Гоголь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Я не люблю, а так, не знаю, как тебе сказать. Без тебя и когда вот так у нас какая-то кошка пробежит, я как будто пропал и ничего не могу. (Н.Ростов, «Война и мир»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Хочешь быть счастливым? Выучись сперва страдать. (И.Тургенев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А ведь дети образ Христов…он велел их чтить и любить, они будущее человечество. (Р.Раскольников, «Преступление и наказание»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Рубль в России 188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Содержание больницы в год – 35000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Жалованье врача – 1000-1500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фельдшера – 300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начальника станции – 200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Машиниста – 447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Рабочего – 10руб. в месяц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уд хлеба – 96 коп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Домострой –свод правил поведения горожа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661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402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А пошлет Бог кому детей, сыновей и дочерей, то заботиться отцу и матери о чадах своих, обеспечить их и воспитать в доброй науке: учить страху Божию и вежливости и всякому порядку. А со временем, по детям смотря и по возрасту, учить их рукоделию, отец - сыновей, а мать - дочерей, кто чего достоин, какие кому Бог способности даст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Отец - глава семьи, его слова - закон. Мать - его помощница. Во всех взглядах на малое или большое - они едины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Любите отца своего и мать свою и слушайтесь их, и повинуйтесь им Божески во всем, и старость их чтите, и страдание всякое от всей души на себя возложите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5:46:41Z</dcterms:created>
  <dc:creator>user</dc:creator>
  <dc:description/>
  <dc:language>en-US</dc:language>
  <cp:lastModifiedBy>user</cp:lastModifiedBy>
  <dcterms:modified xsi:type="dcterms:W3CDTF">2009-01-19T18:06:32Z</dcterms:modified>
  <cp:revision>2</cp:revision>
  <dc:subject/>
  <dc:title>Слайд 1</dc:title>
</cp:coreProperties>
</file>